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8.wmf" ContentType="image/x-wmf"/>
  <Override PartName="/ppt/media/image12.gif" ContentType="image/gif"/>
  <Override PartName="/ppt/media/image3.jpeg" ContentType="image/jpeg"/>
  <Override PartName="/ppt/media/image7.gif" ContentType="image/gif"/>
  <Override PartName="/ppt/media/image18.wmf" ContentType="image/x-wmf"/>
  <Override PartName="/ppt/media/image9.wmf" ContentType="image/x-wmf"/>
  <Override PartName="/ppt/media/image6.gif" ContentType="image/gif"/>
  <Override PartName="/ppt/media/image20.jpeg" ContentType="image/jpeg"/>
  <Override PartName="/ppt/media/image19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5.gif" ContentType="image/gif"/>
  <Override PartName="/ppt/media/image1.png" ContentType="image/png"/>
  <Override PartName="/ppt/media/image13.wmf" ContentType="image/x-wmf"/>
  <Override PartName="/ppt/media/bomb.wav" ContentType="audio/x-wav"/>
  <Override PartName="/ppt/media/image5.wmf" ContentType="image/x-wmf"/>
  <Override PartName="/ppt/media/image10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B2A-58A4-4087-A434-A526E914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F45-3262-4980-BBB9-94489556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B6F-95E7-47BA-8C89-EC12D07C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762-8B4D-4D5D-8C42-7DB5D777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481-195B-4CD1-B69C-D691C426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1364-8950-466A-B9E1-CF8386C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3EFF-91F7-4805-9B59-F7248C15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9644-97FF-408E-A6A3-E51C7E4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42AB-052B-45CC-8079-7AFE33E9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2B66-6644-4E3B-A38D-2948099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625B-C30F-4C85-9C8A-E28E7946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F14-F433-4776-97B1-BA127E00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C888-8FDC-4ADE-B487-A2D43B8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D4A9-3A93-439D-8B57-4B3E4E4E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06E-1F90-4E4B-9A1F-1D020C22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DFE-90F7-4DC5-AB9A-ED18FCE8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1C9-1058-449B-87E6-27161021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933-9790-41F9-8023-860FED1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539-937E-4066-9126-87663450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722-3945-4D20-815E-6ACA020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158-6982-49F9-8A8A-1B30E40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421-A268-4B55-B63F-C861261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2D6-6892-4355-BE2F-7982C73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E1B-1EA8-4069-B91D-E488E58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7E37-302A-43F3-8075-49C82F9B2A1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D644-3A7E-42C1-8AEA-29CD60A3DA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gi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755640" y="234936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ЕМУ ИСЧЕЗЛ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НОЗАВРЫ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468360" y="0"/>
            <a:ext cx="5111640" cy="39337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random/>
    <p:sndAc>
      <p:stSnd>
        <p:snd r:embed="rId2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059280" y="620640"/>
            <a:ext cx="482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АША ГИПОТЕЗА.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7000">
    <p:random/>
    <p:sndAc>
      <p:stSnd>
        <p:snd r:embed="rId2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heel spokes="8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4321440" cy="28530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1724040" cy="1028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  <p:sndAc>
      <p:stSnd>
        <p:snd r:embed="rId4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1116000" y="260280"/>
            <a:ext cx="3527280" cy="2376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3141720"/>
            <a:ext cx="3384720" cy="1800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7559640" y="476280"/>
            <a:ext cx="1584360" cy="11383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5292720" y="5950080"/>
            <a:ext cx="638280" cy="190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r"/>
    <p:sndAc>
      <p:stSnd>
        <p:snd r:embed="rId7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cover dir="rd"/>
    <p:sndAc>
      <p:stSnd>
        <p:snd r:embed="rId2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3203640" cy="1095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791480" y="5634000"/>
            <a:ext cx="1352520" cy="1224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strips dir="lu"/>
    <p:sndAc>
      <p:stSnd>
        <p:snd r:embed="rId4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zoom dir="out"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wipe dir="d"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random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7:04:26Z</dcterms:created>
  <dc:creator>И Р О Ч К А</dc:creator>
  <dc:description/>
  <dc:language>en-US</dc:language>
  <cp:lastModifiedBy>И Р О Ч К А</cp:lastModifiedBy>
  <dcterms:modified xsi:type="dcterms:W3CDTF">2006-12-03T18:50:34Z</dcterms:modified>
  <cp:revision>7</cp:revision>
  <dc:subject/>
  <dc:title>Слайд 1</dc:title>
</cp:coreProperties>
</file>